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6AD-537D-4A8B-AD53-41BC7B67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C7D-035E-4C69-858A-908AAC63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9C0-FD75-45B6-8D60-8E5748CB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5F5-EF50-43E6-B996-0BC37B4E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5833-1CC1-47A2-B6DB-EBEC1A00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6FCE-ACBC-4F4C-83C3-8C2469C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07AE-CA9E-4828-86D6-17F769ED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36AF-B89B-4041-8C8F-E71F6B12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A254-8F1A-4BBA-A974-43D0EA61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5EE7-A6FB-40DE-B2A4-54A99A4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D933-0893-4451-82D4-1937F9E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8C3-1C76-4435-8D71-24A1CD75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5288-2D3C-476C-9C04-2E603576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F939-B9A8-4F5A-92FC-DA7D9491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7838-311F-46D0-8497-859AD11A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D68B-2B7C-43E3-8453-C9D2663A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B4BE-1E1D-4533-9B45-8082787E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A313-E554-4627-914F-40952251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B254-601F-4B2F-AE3B-65569E61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4C54-0017-49D8-9256-FCFCDD97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3317-67DD-47E7-86D8-2B2091A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6F20-490E-43CE-A802-F010D73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32D-1AD2-464E-A082-017461D6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C45A-A58A-40C9-9C6A-1A930C77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7E98-057C-4685-BE1C-C6F54385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BBFD-7325-4909-BA4C-CF2B2BB3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F7BC-4FB5-4971-B252-67CB38D4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6F07-EB55-4108-801C-B8DA192A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8F6B-932A-4A3C-97FC-9BDC269A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06F9-9362-45F4-9429-362153A3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ABCA-E5FF-450E-A07B-C22E738C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F11B-7D77-47EC-9DA8-A8B3DE82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4ABE-9F5B-4205-A850-DFE152E1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B2C-37D3-417E-A5DC-0DDE56C9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2535-7FEA-4EF8-A6E0-A787C1E1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7CB6-06A7-4F84-9149-9651BAEC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C20C-139E-4F2A-B817-EB65B6FF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BEEA-C5D0-4093-B047-9214048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EC57-D15B-4414-AD51-BF593119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E845-EFC2-45DE-85C0-83AE3555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9AFC-945C-4AE7-AF58-5EFEED1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8B7F-BE86-4028-921E-71FDFE2D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9CB7-FDF2-487C-A7EC-8A35C741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1CB18-E43F-4AB7-9DDC-DD9BA0B2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93E-A01C-44C0-A4F1-5BE2B80A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B68B-E977-4A10-A242-EBB3A629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8C56-2175-43B6-A973-30C46342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F814-4738-4F25-B0A7-5285B5BA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4740-E406-4807-A037-E583619E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8228A-7BEE-41E8-97FA-79A9547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4E115-7002-49FC-AA47-3BBA5C0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9840-C285-4E20-BC00-B84C0D0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6F94-48CA-4F47-BAFD-5A05806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F38E-68CD-42CC-BFC2-B8CE1C5F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CEAA5-EC9F-4A76-82C9-22C5B2B6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1F1-2A0D-4D4F-874C-3040EE50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6A6C-2EE1-41F2-BA97-0AD29FA9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7C3E-9BF2-4B9F-92A1-54E16E7C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03A5A-6206-47A2-BEFC-38F55992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D990-A30E-46C6-8E41-C45611B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5A88-2DC0-4512-B41B-537EF1B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79592-DD00-4B67-B49B-CD233223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6E2F-7384-4223-AD06-EC4AA299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3FF93-600B-43EC-A6D2-C213FA3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F7E0-153C-4838-8418-165D817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07628-A2D9-44B3-B0D8-8733A53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A54-A4C0-4CB4-BB89-D8C83BA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DED1-7BB5-4B73-97F2-CA821C82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C8124-A3EA-434F-92BF-486EE3FA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07D6-171E-40B8-95EB-E17CD479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EBFE5-932F-4B69-88D6-10020DD1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D2157-B8A1-4245-BF7B-9DBD472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C527C-0B9D-4419-96BA-105BA750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5E2B0-50EA-4B72-802B-D8BD2E8D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E0375-4F54-4714-9D56-52791AB6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0F4AA-7CAE-4339-87B7-3C9EAE5E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1E5D-3D0D-4A52-8E14-F536B69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951-C90E-4135-B154-506B98BD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16B6-64E9-4D36-B3B4-131FCC1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849F-FAFA-4333-B299-0F83B60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9A7E-D4A6-40CB-8451-351408C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08F73-84C0-4383-8405-A3C65C10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0449F-788C-4CA4-9FC7-7437E25F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DFF1-47D1-4D51-8CC2-29B5B23C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9619F-C224-498A-9B07-11906AA7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FE257-B010-47CE-9FC1-B7BBDE33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190E-4412-4B2B-85BE-396BF1B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5B523-77C2-46F0-A7B8-EF23CAD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C01-A759-4A0D-B6D8-E7B4E3D3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8387-F61B-4D24-858F-0CC355C4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F26D8-DEE1-459F-9A8B-464A660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07038-4A13-4DAE-9E09-78F3DA3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1773F-6C36-4BDA-A9DF-7BE70B9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0F24-5B86-4C1F-94D7-5DBD1928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A0657-40BC-46FE-AD38-953D60F1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6C904-B424-414F-A93C-937F7713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4D1C-010D-4665-A8CC-1A746B48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FC43-FAC0-497C-A8A6-CDF6DBE6A57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24C-5877-4AFB-AF5F-00179AE5B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079-9A2D-435D-B085-B9C21273D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E153-5E3D-44C6-9137-11931E5DC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1DE8-82C5-4F83-B47C-29EE5D997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6AF2-A4FF-4E8E-85DF-A5F9C19FF25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9A93-74D6-468E-8EF8-F610E0EF26E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949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ontent Placeholder 2" descr=""/>
          <p:cNvPicPr/>
          <p:nvPr/>
        </p:nvPicPr>
        <p:blipFill>
          <a:blip r:embed="rId1"/>
          <a:stretch/>
        </p:blipFill>
        <p:spPr>
          <a:xfrm>
            <a:off x="450720" y="1663560"/>
            <a:ext cx="4054680" cy="4591080"/>
          </a:xfrm>
          <a:prstGeom prst="rect">
            <a:avLst/>
          </a:prstGeom>
          <a:ln w="0">
            <a:noFill/>
          </a:ln>
        </p:spPr>
      </p:pic>
      <p:pic>
        <p:nvPicPr>
          <p:cNvPr id="347" name="Content Placeholder 3" descr=""/>
          <p:cNvPicPr/>
          <p:nvPr/>
        </p:nvPicPr>
        <p:blipFill>
          <a:blip r:embed="rId2"/>
          <a:stretch/>
        </p:blipFill>
        <p:spPr>
          <a:xfrm>
            <a:off x="4645080" y="1663560"/>
            <a:ext cx="40482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s for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ste tenedor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s boo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e libr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se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os estudiant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se tabl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s mes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at for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e tenedo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at boo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e libr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ose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os estudiant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ose tabl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as mes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se point out things FAR FAR AWAY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entury Gothic"/>
              </a:rPr>
              <a:t>THAT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Century Gothic"/>
              </a:rPr>
              <a:t>THO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 (ms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os (mp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a (fs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as (fp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at knife (over there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ose napkins (over there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jectives that refer to an idea, action or something that we don’t know what it is, we use the following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TO  ----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O  -----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O ----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at (over there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¿Qué es eso?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¿Qué es esto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0:41:48Z</dcterms:created>
  <dc:creator>Maple Lake</dc:creator>
  <dc:description/>
  <dc:language>en-US</dc:language>
  <cp:lastModifiedBy>Maple Lake</cp:lastModifiedBy>
  <dcterms:modified xsi:type="dcterms:W3CDTF">2008-10-09T16:46:08Z</dcterms:modified>
  <cp:revision>4</cp:revision>
  <dc:subject/>
  <dc:title>Demonstrative Adjectives</dc:title>
</cp:coreProperties>
</file>